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5148263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560680" y="1142640"/>
            <a:ext cx="173664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fld id="{3329FF23-6305-4E68-BFAB-682D5D0E44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560680" y="1143000"/>
            <a:ext cx="1736640" cy="308628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fld id="{83FD1443-C71F-4955-91DC-405D0473C0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1D1A-9329-4D7A-8DC5-3586F2C80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57040" y="366480"/>
            <a:ext cx="4633920" cy="15238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7040" y="2133360"/>
            <a:ext cx="4633920" cy="28778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7040" y="5285160"/>
            <a:ext cx="4633920" cy="28778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8310-FB6C-4A61-9E55-2449776CE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7040" y="366480"/>
            <a:ext cx="4633920" cy="15238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7040" y="2133360"/>
            <a:ext cx="2261160" cy="28778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631600" y="2133360"/>
            <a:ext cx="2261160" cy="28778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7040" y="5285160"/>
            <a:ext cx="2261160" cy="28778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631600" y="5285160"/>
            <a:ext cx="2261160" cy="28778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8125-C1FC-497C-9412-4213B0AE5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7040" y="366480"/>
            <a:ext cx="4633920" cy="15238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7040" y="2133360"/>
            <a:ext cx="1491840" cy="28778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823760" y="2133360"/>
            <a:ext cx="1491840" cy="28778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390840" y="2133360"/>
            <a:ext cx="1491840" cy="28778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7040" y="5285160"/>
            <a:ext cx="1491840" cy="28778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823760" y="5285160"/>
            <a:ext cx="1491840" cy="28778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390840" y="5285160"/>
            <a:ext cx="1491840" cy="28778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554B-ECC6-4527-9D4E-40424AB93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57040" y="366480"/>
            <a:ext cx="4633920" cy="15238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7040" y="2133360"/>
            <a:ext cx="463392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BBAE-2A8F-4BCF-8468-852179D99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7040" y="366480"/>
            <a:ext cx="4633920" cy="15238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7040" y="2133360"/>
            <a:ext cx="4633920" cy="60339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DEC9-4F28-48C0-9313-B1F6B258E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7040" y="366480"/>
            <a:ext cx="4633920" cy="15238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7040" y="2133360"/>
            <a:ext cx="2261160" cy="60339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631600" y="2133360"/>
            <a:ext cx="2261160" cy="60339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0A9A-4814-4C52-834B-17D21A67B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7040" y="366480"/>
            <a:ext cx="4633920" cy="15238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1A2E-21EB-436D-AB49-A95C9F744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57040" y="366480"/>
            <a:ext cx="46339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C35A-454D-4521-803F-614CFEAA7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7040" y="366480"/>
            <a:ext cx="4633920" cy="15238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7040" y="2133360"/>
            <a:ext cx="2261160" cy="28778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631600" y="2133360"/>
            <a:ext cx="2261160" cy="60339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7040" y="5285160"/>
            <a:ext cx="2261160" cy="28778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FEDB-02C1-41DA-BF38-F9EA0CE19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57040" y="366480"/>
            <a:ext cx="4633920" cy="15238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7040" y="2133360"/>
            <a:ext cx="2261160" cy="60339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631600" y="2133360"/>
            <a:ext cx="2261160" cy="28778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631600" y="5285160"/>
            <a:ext cx="2261160" cy="28778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224A-5E82-4555-BDCE-A38AFE2C7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57040" y="366480"/>
            <a:ext cx="4633920" cy="15238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7040" y="2133360"/>
            <a:ext cx="2261160" cy="28778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631600" y="2133360"/>
            <a:ext cx="2261160" cy="28778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7040" y="5285160"/>
            <a:ext cx="4633920" cy="28778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5F6C-7305-49AB-95E9-502C03A41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7040" y="366480"/>
            <a:ext cx="4633920" cy="15238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7040" y="2133360"/>
            <a:ext cx="4633920" cy="60339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304920" indent="-30492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62040" indent="-25416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1019160" indent="-20304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427040" indent="-20304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36720" indent="-20304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36720" indent="-20304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36720" indent="-20304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56680" y="8475480"/>
            <a:ext cx="1202040" cy="4856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  <a:defRPr b="0" lang="en-US" sz="11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fld id="{A082B52B-8F65-43DB-9033-32A90601C4A4}" type="datetime">
              <a:rPr b="0" lang="en-US" sz="11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758600" y="8475480"/>
            <a:ext cx="1630440" cy="4856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689280" y="8475480"/>
            <a:ext cx="1201680" cy="4856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  <a:defRPr b="0" lang="en-US" sz="11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fld id="{1AADD151-D9E4-4936-B061-A07EC31D7592}" type="slidenum">
              <a:rPr b="0" lang="en-US" sz="11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1"/>
          <p:cNvSpPr/>
          <p:nvPr/>
        </p:nvSpPr>
        <p:spPr>
          <a:xfrm>
            <a:off x="544680" y="5438880"/>
            <a:ext cx="43131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oin us as we celebrat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best of Austin.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Insert Day/Date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Insert Ti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1"/>
          <p:cNvSpPr/>
          <p:nvPr/>
        </p:nvSpPr>
        <p:spPr>
          <a:xfrm>
            <a:off x="544680" y="7913520"/>
            <a:ext cx="11570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tact the Dining Services Department for more detail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sodexologo.png"/>
          <p:cNvPicPr/>
          <p:nvPr/>
        </p:nvPicPr>
        <p:blipFill>
          <a:blip r:embed="rId2"/>
          <a:stretch/>
        </p:blipFill>
        <p:spPr>
          <a:xfrm>
            <a:off x="1895400" y="8205840"/>
            <a:ext cx="1157400" cy="37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5T12:59:41Z</dcterms:created>
  <dc:creator>Patricia Pugh</dc:creator>
  <dc:description/>
  <dc:language>en-US</dc:language>
  <cp:lastModifiedBy>Patricia Pugh</cp:lastModifiedBy>
  <cp:lastPrinted>2014-06-27T15:18:16Z</cp:lastPrinted>
  <dcterms:modified xsi:type="dcterms:W3CDTF">2021-06-03T19:29:34Z</dcterms:modified>
  <cp:revision>51</cp:revision>
  <dc:subject/>
  <dc:title>Slide 1</dc:title>
</cp:coreProperties>
</file>