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389-92EC-4A2B-AF4D-E18AC6F6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EC1-3C38-440A-A6DA-05AF755C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954-981C-44BF-A103-6A9AE1D3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133-75D4-4A57-82C5-6B77BE3C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607-3252-43A9-A630-37A28353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166-3852-421C-9D59-917EED15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704-977C-40FA-9AF4-FF0C1193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374-CBCE-43C6-8542-4B49FA66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9A1-1DDC-4406-8374-EB9C1833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A01-C61A-4039-93BE-8A7460FD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2C8-8834-4A07-B866-7AA99ED0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8EA-CD49-4EAC-91C4-C0BDF8D8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4600" indent="-444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64800" indent="-3711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485000" indent="-2959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078640" indent="-2959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E6D52FC5-314F-4277-9205-ED3C8CDD33D3}" type="datetime">
              <a:rPr b="0" lang="en-US" sz="17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627680"/>
            <a:ext cx="463248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7794A34E-2EE6-4AF6-95C3-E4BFF5E2E155}" type="slidenum">
              <a:rPr b="0" lang="en-US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12720" y="2895480"/>
            <a:ext cx="63835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est of Austin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695160" y="6648480"/>
            <a:ext cx="20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odexologo.png"/>
          <p:cNvPicPr/>
          <p:nvPr/>
        </p:nvPicPr>
        <p:blipFill>
          <a:blip r:embed="rId2"/>
          <a:stretch/>
        </p:blipFill>
        <p:spPr>
          <a:xfrm>
            <a:off x="2747880" y="692640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41:17Z</dcterms:created>
  <dc:creator>Patricia Pugh</dc:creator>
  <dc:description/>
  <dc:language>en-US</dc:language>
  <cp:lastModifiedBy>Patricia Pugh</cp:lastModifiedBy>
  <dcterms:modified xsi:type="dcterms:W3CDTF">2021-06-03T19:23:45Z</dcterms:modified>
  <cp:revision>21</cp:revision>
  <dc:subject/>
  <dc:title>Slide 1</dc:title>
</cp:coreProperties>
</file>