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5148263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0405-182F-4219-A825-6883CD56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3A8-AEA1-45F2-8BB8-E5095DFB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C708-A30C-4AC6-AFCE-E836392B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376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908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0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376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908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81A0-1361-45C8-AAF9-F8D24029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940D-34E7-4235-95AF-F98200D1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AFF4-7E5E-42EB-AF69-5E613F04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11FD-7F51-4EF1-887E-3DF5DE4A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6F48-BDE6-48FF-BDC7-B5CA85AB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040" y="366480"/>
            <a:ext cx="46339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CE4C-F68E-4385-B237-BF81A490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EF60-4B30-4EC4-AA92-CCBCD2BC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B889-4FC5-4051-AF87-7A8F8830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9C64-A990-494B-845B-3826495E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6680" y="8475480"/>
            <a:ext cx="12020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B0978-2E9B-4B2E-9544-EB7D1A35FA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8600" y="8475480"/>
            <a:ext cx="16304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89280" y="8475480"/>
            <a:ext cx="12016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374C4-09CE-4E43-BA29-8789B817A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554040" y="8659800"/>
            <a:ext cx="300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act the Dining Services Department for more detail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sodexologo.png"/>
          <p:cNvPicPr/>
          <p:nvPr/>
        </p:nvPicPr>
        <p:blipFill>
          <a:blip r:embed="rId2"/>
          <a:stretch/>
        </p:blipFill>
        <p:spPr>
          <a:xfrm>
            <a:off x="3840120" y="8599320"/>
            <a:ext cx="72540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554040" y="2720880"/>
            <a:ext cx="37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in us on (INSERT DAY/DATE) AT (INSERT TIM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554040" y="5129280"/>
            <a:ext cx="300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act the Dining Services Department for more detail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sodexologo.png"/>
          <p:cNvPicPr/>
          <p:nvPr/>
        </p:nvPicPr>
        <p:blipFill>
          <a:blip r:embed="rId2"/>
          <a:stretch/>
        </p:blipFill>
        <p:spPr>
          <a:xfrm>
            <a:off x="3840120" y="5068800"/>
            <a:ext cx="72540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02:28:52Z</dcterms:created>
  <dc:creator>Patricia Pugh</dc:creator>
  <dc:description/>
  <dc:language>en-US</dc:language>
  <cp:lastModifiedBy>Patricia Pugh</cp:lastModifiedBy>
  <dcterms:modified xsi:type="dcterms:W3CDTF">2021-06-04T20:21:31Z</dcterms:modified>
  <cp:revision>8</cp:revision>
  <dc:subject/>
  <dc:title>Slide 1</dc:title>
</cp:coreProperties>
</file>