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180E9860-107B-4755-A20E-54A8E2AA8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C5B12B6A-08A0-46C0-AEF9-05C7AD335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A01-CA6B-44A9-B6F0-7A9F8430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26B-12B1-403E-8468-95098B31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861-A13C-459A-B22E-1ED4E4E6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04F-A581-4D14-8171-E3FFEC92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509-9251-48AF-BE7E-8E20D778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F22-E968-4F15-AF3B-96DF5020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0AE-1659-48F0-8955-08FC7D77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9EA-6E9D-4284-B111-E3E6375B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FDD-B557-4CE8-BB88-97FC47CB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ADB-8F85-44ED-80D9-301893CF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07E-4152-4EFA-BD0D-012B99D1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887-6AB1-40A1-98F5-7CA50484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FFEE456E-AEE1-4FE5-BDCB-1912A820A31C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DA9E5D86-5090-4611-837A-9B030791CF5F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Boston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3T19:29:02Z</dcterms:modified>
  <cp:revision>51</cp:revision>
  <dc:subject/>
  <dc:title>Slide 1</dc:title>
</cp:coreProperties>
</file>