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462-C8BE-43D2-83EF-804C9319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118-CE35-4F3C-B323-A49AB27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8A6-4017-4D41-9AD0-56879D37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AEB-4470-483E-A0E8-400B0FE8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069-BC0B-4DCA-AECB-BDA6BA5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928-C2A5-46BD-896A-67BB92A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D59-1B7E-4461-ABF2-6D5CE00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35E-2F64-4070-96EA-127C29B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4D0-FAF0-4304-879B-80F6032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1FB-DB36-4BA7-A824-31912D0A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3F3-424E-4BAC-B3E4-37A63DE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02F-9E20-4441-B77C-1BE16A6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0149BDEE-776E-4E33-B010-52EF093E310B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A8F385C-F279-4E48-964A-F2B58EF5C561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Boston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3T19:29:16Z</dcterms:modified>
  <cp:revision>21</cp:revision>
  <dc:subject/>
  <dc:title>Slide 1</dc:title>
</cp:coreProperties>
</file>