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5148263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560680" y="1142640"/>
            <a:ext cx="173664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DB2C7BCB-C5B5-4BB6-B345-A34CAF147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560680" y="1143000"/>
            <a:ext cx="1736640" cy="308628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14AFD56A-1310-4060-8B8F-B60A08A75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1F02-2614-4FCA-9DC0-702B4FE3F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040" y="52851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E8BB-254D-4A2C-95FD-BA46788A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3160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AEC6-2C1D-4E88-8739-49224B53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376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9084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04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376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9084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7920-8BF9-4220-93F4-77A36C073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EC50-B0E4-4C1B-970F-5E93DC3E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6E6F-C325-4F8C-9192-FDDF73F9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FAFE-EE4E-4F09-A315-46CE4B90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7E88-593A-4948-B870-D0ED2395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040" y="366480"/>
            <a:ext cx="46339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23DB-5AED-4652-8D73-14C5ACA5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0880-32E9-4CA4-941E-51F5B4AE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3160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CA4C-1E9B-44DB-A7F0-FDFC51EB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1393-8215-45B5-B0F7-54B70417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304920" indent="-30492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62040" indent="-2541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019160" indent="-203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427040" indent="-2030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36720" indent="-2030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36720" indent="-2030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36720" indent="-2030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6680" y="8475480"/>
            <a:ext cx="1202040" cy="485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24B34720-79FF-4C6A-A15A-1969813CB33C}" type="datetime">
              <a:rPr b="0" lang="en-US" sz="11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8600" y="8475480"/>
            <a:ext cx="1630440" cy="485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89280" y="8475480"/>
            <a:ext cx="1201680" cy="485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25F1B203-613C-443D-BA69-526A74C13A01}" type="slidenum">
              <a:rPr b="0" lang="en-U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544680" y="5438880"/>
            <a:ext cx="4313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in us as we celebr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est of Charleston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sert Day/Date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sert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544680" y="7913520"/>
            <a:ext cx="1157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act the Dining Services Department for more detai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sodexologo.png"/>
          <p:cNvPicPr/>
          <p:nvPr/>
        </p:nvPicPr>
        <p:blipFill>
          <a:blip r:embed="rId2"/>
          <a:stretch/>
        </p:blipFill>
        <p:spPr>
          <a:xfrm>
            <a:off x="1895400" y="8205840"/>
            <a:ext cx="1157400" cy="3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5T12:59:41Z</dcterms:created>
  <dc:creator>Patricia Pugh</dc:creator>
  <dc:description/>
  <dc:language>en-US</dc:language>
  <cp:lastModifiedBy>Patricia Pugh</cp:lastModifiedBy>
  <cp:lastPrinted>2014-06-27T15:18:16Z</cp:lastPrinted>
  <dcterms:modified xsi:type="dcterms:W3CDTF">2021-06-03T19:28:25Z</dcterms:modified>
  <cp:revision>51</cp:revision>
  <dc:subject/>
  <dc:title>Slide 1</dc:title>
</cp:coreProperties>
</file>