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B24-E1E6-4276-90BA-1DA9B532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5A6-FDBB-45F5-8E10-2211F8A0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BB4-838A-451D-9BE9-89F1049E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BD0-8D4B-402A-807A-FB20B94C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9D4-CCA6-47FE-9DD1-9B11C6A4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15F-A30F-49AD-89F0-188A8C5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A96-36A8-42F6-9E88-89E27B66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D3B-0C69-406E-A91F-714FA994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8E6-F9A3-443C-94B9-0735F84F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EC7-0661-4419-A46E-20FE516C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E3B-C3AD-4146-AEBF-1B988CC7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F99-D8E6-46E5-A334-129F9E6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52760EE6-9E3F-4AEE-81F7-7D28332D928C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EECB2C0C-8BD4-4EB8-BA4C-838ADD5F5326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Charleston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3T19:28:34Z</dcterms:modified>
  <cp:revision>21</cp:revision>
  <dc:subject/>
  <dc:title>Slide 1</dc:title>
</cp:coreProperties>
</file>