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4630400" cy="8229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0468F-A162-4A7F-A58F-009E4C60F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31880" y="330120"/>
            <a:ext cx="13166640" cy="1371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ctr">
            <a:noAutofit/>
          </a:bodyPr>
          <a:p>
            <a:pPr indent="0" algn="ctr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31880" y="1920600"/>
            <a:ext cx="13166640" cy="25902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31880" y="4757400"/>
            <a:ext cx="13166640" cy="25902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32052-43F3-4CD5-8F2A-9291BC1AC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31880" y="330120"/>
            <a:ext cx="13166640" cy="1371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ctr">
            <a:noAutofit/>
          </a:bodyPr>
          <a:p>
            <a:pPr indent="0" algn="ctr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31880" y="1920600"/>
            <a:ext cx="6425280" cy="25902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478640" y="1920600"/>
            <a:ext cx="6425280" cy="25902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31880" y="4757400"/>
            <a:ext cx="6425280" cy="25902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7478640" y="4757400"/>
            <a:ext cx="6425280" cy="25902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0794E-2FD2-47DF-A60C-C32392AEB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31880" y="330120"/>
            <a:ext cx="13166640" cy="1371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ctr">
            <a:noAutofit/>
          </a:bodyPr>
          <a:p>
            <a:pPr indent="0" algn="ctr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31880" y="1920600"/>
            <a:ext cx="4239360" cy="25902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83640" y="1920600"/>
            <a:ext cx="4239360" cy="25902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9635400" y="1920600"/>
            <a:ext cx="4239360" cy="25902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31880" y="4757400"/>
            <a:ext cx="4239360" cy="25902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5183640" y="4757400"/>
            <a:ext cx="4239360" cy="25902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9635400" y="4757400"/>
            <a:ext cx="4239360" cy="25902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2790E-FECF-44AA-A490-5649408FB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31880" y="330120"/>
            <a:ext cx="13166640" cy="1371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ctr">
            <a:noAutofit/>
          </a:bodyPr>
          <a:p>
            <a:pPr indent="0" algn="ctr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31880" y="1920600"/>
            <a:ext cx="13166640" cy="54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51"/>
              </a:spcBef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B585D-FAF1-43F9-8756-14B2109E7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31880" y="330120"/>
            <a:ext cx="13166640" cy="1371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ctr">
            <a:noAutofit/>
          </a:bodyPr>
          <a:p>
            <a:pPr indent="0" algn="ctr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31880" y="1920600"/>
            <a:ext cx="13166640" cy="5430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FD309-D4C1-4A88-91ED-B81B77D01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31880" y="330120"/>
            <a:ext cx="13166640" cy="1371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ctr">
            <a:noAutofit/>
          </a:bodyPr>
          <a:p>
            <a:pPr indent="0" algn="ctr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31880" y="1920600"/>
            <a:ext cx="6425280" cy="5430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7478640" y="1920600"/>
            <a:ext cx="6425280" cy="5430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65B6A-B5A6-4BB2-9C52-0FFB53D85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31880" y="330120"/>
            <a:ext cx="13166640" cy="1371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ctr">
            <a:noAutofit/>
          </a:bodyPr>
          <a:p>
            <a:pPr indent="0" algn="ctr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68B22-B961-4ED4-BB21-C7D60A676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31880" y="330120"/>
            <a:ext cx="1316664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51"/>
              </a:spcBef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53494-D0C8-4025-827E-5C1FF9ADC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31880" y="330120"/>
            <a:ext cx="13166640" cy="1371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ctr">
            <a:noAutofit/>
          </a:bodyPr>
          <a:p>
            <a:pPr indent="0" algn="ctr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31880" y="1920600"/>
            <a:ext cx="6425280" cy="25902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7478640" y="1920600"/>
            <a:ext cx="6425280" cy="5430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31880" y="4757400"/>
            <a:ext cx="6425280" cy="25902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B5EA7-6723-406E-A0D0-4884636F5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31880" y="330120"/>
            <a:ext cx="13166640" cy="1371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ctr">
            <a:noAutofit/>
          </a:bodyPr>
          <a:p>
            <a:pPr indent="0" algn="ctr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31880" y="1920600"/>
            <a:ext cx="6425280" cy="5430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7478640" y="1920600"/>
            <a:ext cx="6425280" cy="25902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7478640" y="4757400"/>
            <a:ext cx="6425280" cy="25902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C54DD-90EE-46E3-B212-A57BE7FF6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31880" y="330120"/>
            <a:ext cx="13166640" cy="1371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ctr">
            <a:noAutofit/>
          </a:bodyPr>
          <a:p>
            <a:pPr indent="0" algn="ctr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31880" y="1920600"/>
            <a:ext cx="6425280" cy="25902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7478640" y="1920600"/>
            <a:ext cx="6425280" cy="25902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31880" y="4757400"/>
            <a:ext cx="13166640" cy="25902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9B9E0-DBC4-438A-BABA-5E7F12F78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31880" y="330120"/>
            <a:ext cx="13166640" cy="1371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ctr">
            <a:noAutofit/>
          </a:bodyPr>
          <a:p>
            <a:pPr indent="0" algn="ctr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en-US" sz="63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31880" y="1920600"/>
            <a:ext cx="13166640" cy="5430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 fontScale="91000"/>
          </a:bodyPr>
          <a:p>
            <a:pPr marL="444600" indent="-444600">
              <a:spcBef>
                <a:spcPts val="1151"/>
              </a:spcBef>
              <a:buClr>
                <a:srgbClr val="000000"/>
              </a:buClr>
              <a:buFont typeface="Arial"/>
              <a:buChar char="•"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  <a:p>
            <a:pPr lvl="1" marL="964800" indent="-371160">
              <a:spcBef>
                <a:spcPts val="1151"/>
              </a:spcBef>
              <a:buClr>
                <a:srgbClr val="000000"/>
              </a:buClr>
              <a:buFont typeface="Arial"/>
              <a:buChar char="–"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  <a:p>
            <a:pPr lvl="2" marL="1485000" indent="-295920">
              <a:spcBef>
                <a:spcPts val="1151"/>
              </a:spcBef>
              <a:buClr>
                <a:srgbClr val="000000"/>
              </a:buClr>
              <a:buFont typeface="Arial"/>
              <a:buChar char="•"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  <a:p>
            <a:pPr lvl="3" marL="2078640" indent="-295920">
              <a:spcBef>
                <a:spcPts val="1151"/>
              </a:spcBef>
              <a:buClr>
                <a:srgbClr val="000000"/>
              </a:buClr>
              <a:buFont typeface="Arial"/>
              <a:buChar char="–"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  <a:p>
            <a:pPr lvl="4" marL="2673720" indent="-295920">
              <a:spcBef>
                <a:spcPts val="1151"/>
              </a:spcBef>
              <a:buClr>
                <a:srgbClr val="000000"/>
              </a:buClr>
              <a:buFont typeface="Arial"/>
              <a:buChar char="»"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  <a:p>
            <a:pPr lvl="5" marL="2673720" indent="-295920">
              <a:spcBef>
                <a:spcPts val="1151"/>
              </a:spcBef>
              <a:buClr>
                <a:srgbClr val="000000"/>
              </a:buClr>
              <a:buFont typeface="Arial"/>
              <a:buChar char="»"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  <a:p>
            <a:pPr lvl="6" marL="2673720" indent="-295920">
              <a:spcBef>
                <a:spcPts val="1151"/>
              </a:spcBef>
              <a:buClr>
                <a:srgbClr val="000000"/>
              </a:buClr>
              <a:buFont typeface="Arial"/>
              <a:buChar char="»"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31520" y="7627680"/>
            <a:ext cx="3413160" cy="43812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  <a:defRPr b="0" lang="en-US" sz="17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fld id="{5109A5AC-40FD-4439-948F-DBCD8225B0E3}" type="datetime">
              <a:rPr b="0" lang="en-US" sz="17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998960" y="7627680"/>
            <a:ext cx="4632480" cy="43812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ctr">
            <a:noAutofit/>
          </a:bodyPr>
          <a:p>
            <a:pPr indent="0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0485000" y="7627680"/>
            <a:ext cx="3413160" cy="43812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  <a:defRPr b="0" lang="en-US" sz="17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fld id="{443551DE-42EC-4DB4-9C23-D9DF3279C53A}" type="slidenum">
              <a:rPr b="0" lang="en-US" sz="17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"/>
          <p:cNvSpPr/>
          <p:nvPr/>
        </p:nvSpPr>
        <p:spPr>
          <a:xfrm>
            <a:off x="612720" y="2895480"/>
            <a:ext cx="6383520" cy="32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oin us as we celebrate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best of Chicago.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Insert Day/Date)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Insert Tim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1"/>
          <p:cNvSpPr/>
          <p:nvPr/>
        </p:nvSpPr>
        <p:spPr>
          <a:xfrm>
            <a:off x="695160" y="6648480"/>
            <a:ext cx="2052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Dining Services Department for more detail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sodexologo.png"/>
          <p:cNvPicPr/>
          <p:nvPr/>
        </p:nvPicPr>
        <p:blipFill>
          <a:blip r:embed="rId2"/>
          <a:stretch/>
        </p:blipFill>
        <p:spPr>
          <a:xfrm>
            <a:off x="2747880" y="6926400"/>
            <a:ext cx="1157400" cy="37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6-23T02:41:17Z</dcterms:created>
  <dc:creator>Patricia Pugh</dc:creator>
  <dc:description/>
  <dc:language>en-US</dc:language>
  <cp:lastModifiedBy>Patricia Pugh</cp:lastModifiedBy>
  <dcterms:modified xsi:type="dcterms:W3CDTF">2021-06-03T19:27:54Z</dcterms:modified>
  <cp:revision>21</cp:revision>
  <dc:subject/>
  <dc:title>Slide 1</dc:title>
</cp:coreProperties>
</file>