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948EB441-C6D6-4B07-A5DE-9BDA1E63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5DB32580-4710-41AF-98C2-A697D2A7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4C8-BA71-4A4C-BA68-435937BC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658-8E76-4D43-82CE-FE8E9ACC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8A1-4CB6-44DD-95EA-A57097E0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82B-4492-489D-A8B9-AFBE774C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40F-2BAD-4DD8-B8B9-A20F0D38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AE6-5754-4D6D-846E-F88AD7DB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D5F-D50D-4C3B-BCF5-FE9B9162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B2B-368D-421B-B5EF-6756D171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6DE-CCA2-4815-BA8F-EE49ECC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801-A86E-48F1-A5C7-DE5B1B4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155-8463-4BB1-803A-D3B6F9F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F43-F039-4D02-B342-B0D8FD7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BBC384E-9AF3-4590-81C0-741532439852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CCEC2328-2E32-4757-8EF8-E2ED9110246F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Chicago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3T19:27:46Z</dcterms:modified>
  <cp:revision>51</cp:revision>
  <dc:subject/>
  <dc:title>Slide 1</dc:title>
</cp:coreProperties>
</file>