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4630400" cy="8229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A9CB-8B23-4488-A10C-6B920F54D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1316664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1880" y="4757400"/>
            <a:ext cx="1316664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5A18-2D50-459F-8C7D-D3591F126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1880" y="47574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478640" y="47574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1C50-5640-4CCC-80B8-CEB024BCC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83640" y="19206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635400" y="19206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1880" y="47574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183640" y="47574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635400" y="47574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46F8-7E68-4AD6-9E1E-ECCA4DF75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1880" y="1920600"/>
            <a:ext cx="13166640" cy="54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A966-1C0D-479B-92AD-0565A12D4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1316664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EE5F-0928-4EF8-A330-7F3AC4F83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A97B-2786-43EE-9C96-CE9EF1E0F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90A3-A9A0-4643-8F37-D0DB966C1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31880" y="330120"/>
            <a:ext cx="131666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51"/>
              </a:spcBef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1279-46A4-4A2B-B499-3B17A7425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1880" y="47574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DB38-08A0-40A3-A99B-06F267DF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78640" y="47574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0746-5507-4D23-BA8F-0B318236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1880" y="4757400"/>
            <a:ext cx="1316664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A279-FC3D-4DB7-A691-9F76040F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1880" y="1920600"/>
            <a:ext cx="1316664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 fontScale="91000"/>
          </a:bodyPr>
          <a:p>
            <a:pPr marL="444600" indent="-44460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1" marL="964800" indent="-371160">
              <a:spcBef>
                <a:spcPts val="1151"/>
              </a:spcBef>
              <a:buClr>
                <a:srgbClr val="000000"/>
              </a:buClr>
              <a:buFont typeface="Arial"/>
              <a:buChar char="–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2" marL="1485000" indent="-29592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3" marL="2078640" indent="-295920">
              <a:spcBef>
                <a:spcPts val="1151"/>
              </a:spcBef>
              <a:buClr>
                <a:srgbClr val="000000"/>
              </a:buClr>
              <a:buFont typeface="Arial"/>
              <a:buChar char="–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4" marL="2673720" indent="-295920">
              <a:spcBef>
                <a:spcPts val="1151"/>
              </a:spcBef>
              <a:buClr>
                <a:srgbClr val="000000"/>
              </a:buClr>
              <a:buFont typeface="Arial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5" marL="2673720" indent="-295920">
              <a:spcBef>
                <a:spcPts val="1151"/>
              </a:spcBef>
              <a:buClr>
                <a:srgbClr val="000000"/>
              </a:buClr>
              <a:buFont typeface="Arial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6" marL="2673720" indent="-295920">
              <a:spcBef>
                <a:spcPts val="1151"/>
              </a:spcBef>
              <a:buClr>
                <a:srgbClr val="000000"/>
              </a:buClr>
              <a:buFont typeface="Arial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31520" y="7627680"/>
            <a:ext cx="3413160" cy="43812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  <a:defRPr b="0" lang="en-US" sz="1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fld id="{B1D1E9E1-6F36-40A3-83A4-83555801E0E4}" type="datetime">
              <a:rPr b="0" lang="en-US" sz="17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998960" y="7627680"/>
            <a:ext cx="4632480" cy="43812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485000" y="7627680"/>
            <a:ext cx="3413160" cy="43812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  <a:defRPr b="0" lang="en-US" sz="1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fld id="{992B0707-EA06-49E7-B8E0-A88066245267}" type="slidenum">
              <a:rPr b="0" lang="en-US" sz="1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612720" y="2895480"/>
            <a:ext cx="638352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in us as we celebrat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best of Miami.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Insert Day/Date)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Insert Tim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"/>
          <p:cNvSpPr/>
          <p:nvPr/>
        </p:nvSpPr>
        <p:spPr>
          <a:xfrm>
            <a:off x="695160" y="6648480"/>
            <a:ext cx="2052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Dining Services Department for more detai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sodexologo.png"/>
          <p:cNvPicPr/>
          <p:nvPr/>
        </p:nvPicPr>
        <p:blipFill>
          <a:blip r:embed="rId2"/>
          <a:stretch/>
        </p:blipFill>
        <p:spPr>
          <a:xfrm>
            <a:off x="2747880" y="6926400"/>
            <a:ext cx="1157400" cy="37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3T02:41:17Z</dcterms:created>
  <dc:creator>Patricia Pugh</dc:creator>
  <dc:description/>
  <dc:language>en-US</dc:language>
  <cp:lastModifiedBy>Patricia Pugh</cp:lastModifiedBy>
  <dcterms:modified xsi:type="dcterms:W3CDTF">2021-06-03T19:26:16Z</dcterms:modified>
  <cp:revision>21</cp:revision>
  <dc:subject/>
  <dc:title>Slide 1</dc:title>
</cp:coreProperties>
</file>