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59DA2636-0E1E-40EC-8189-8F480D11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FF9DD32A-F822-42CA-8D95-C78B9CF2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19D-4A22-45E2-B7CC-952A9D00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CAB-A91D-481B-9335-05232FE6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A11-7EE9-4DAD-9F60-7C159AA4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729-87EE-4789-85E4-56A77DD4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361-7613-490B-A216-70BC5017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5E8-B8A6-4A8A-A2DB-8FF9174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0C5-93E9-4003-8A1A-0FE74202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C85-E61E-405B-9D7B-29186711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048-0124-42F5-871D-8C1EB6AF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1D1-AB18-47F8-A265-344B8A84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023-BFC0-47ED-B1B6-1036161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F64-1623-428D-921C-AF0ED16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D31E52FF-812F-4B03-BD90-56ACDCB8E64D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DD41A2C4-25D9-4C64-8AC2-674EF3C98C73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Miami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3T19:26:41Z</dcterms:modified>
  <cp:revision>51</cp:revision>
  <dc:subject/>
  <dc:title>Slide 1</dc:title>
</cp:coreProperties>
</file>