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4630400" cy="8229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DF4F-F621-4D9A-A925-3ADA3D84C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1316664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1880" y="4757400"/>
            <a:ext cx="1316664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696D-BAC4-45EB-A2CC-DC05E0F07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1880" y="47574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478640" y="47574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013F-1A3B-4E67-A67F-75C0DED0F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83640" y="19206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635400" y="19206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1880" y="47574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183640" y="47574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635400" y="47574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F1B0-971E-4199-9EEF-D57142EFF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1880" y="1920600"/>
            <a:ext cx="13166640" cy="54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2702-AE8F-4ED1-9451-75025C68E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1316664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2165-E64C-406B-8109-08260DA12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4C5C-6F4B-4C90-BFAB-6153BB00E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E258-99C5-41CC-8243-DA737BD13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31880" y="330120"/>
            <a:ext cx="131666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51"/>
              </a:spcBef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3827-25D1-4487-BB20-EB9FF68FF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1880" y="47574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66A8-640C-48AA-AB97-FED825A5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78640" y="47574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9966-FCF4-45BD-B2E5-7BCB2103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1880" y="4757400"/>
            <a:ext cx="1316664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885F-05E0-4F48-B1BA-8A395D01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1880" y="1920600"/>
            <a:ext cx="1316664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 fontScale="91000"/>
          </a:bodyPr>
          <a:p>
            <a:pPr marL="444600" indent="-44460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1" marL="964800" indent="-371160">
              <a:spcBef>
                <a:spcPts val="1151"/>
              </a:spcBef>
              <a:buClr>
                <a:srgbClr val="000000"/>
              </a:buClr>
              <a:buFont typeface="Arial"/>
              <a:buChar char="–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2" marL="1485000" indent="-29592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3" marL="2078640" indent="-295920">
              <a:spcBef>
                <a:spcPts val="1151"/>
              </a:spcBef>
              <a:buClr>
                <a:srgbClr val="000000"/>
              </a:buClr>
              <a:buFont typeface="Arial"/>
              <a:buChar char="–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4" marL="2673720" indent="-295920">
              <a:spcBef>
                <a:spcPts val="1151"/>
              </a:spcBef>
              <a:buClr>
                <a:srgbClr val="000000"/>
              </a:buClr>
              <a:buFont typeface="Arial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5" marL="2673720" indent="-295920">
              <a:spcBef>
                <a:spcPts val="1151"/>
              </a:spcBef>
              <a:buClr>
                <a:srgbClr val="000000"/>
              </a:buClr>
              <a:buFont typeface="Arial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6" marL="2673720" indent="-295920">
              <a:spcBef>
                <a:spcPts val="1151"/>
              </a:spcBef>
              <a:buClr>
                <a:srgbClr val="000000"/>
              </a:buClr>
              <a:buFont typeface="Arial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31520" y="7627680"/>
            <a:ext cx="3413160" cy="43812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  <a:defRPr b="0" lang="en-US" sz="1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fld id="{9AFEB101-7443-4522-9C63-9C11EF7E133C}" type="datetime">
              <a:rPr b="0" lang="en-US" sz="17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998960" y="7627680"/>
            <a:ext cx="4632480" cy="43812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485000" y="7627680"/>
            <a:ext cx="3413160" cy="43812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  <a:defRPr b="0" lang="en-US" sz="1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fld id="{6CA7EFAE-85BE-460A-B355-F0A0DB862180}" type="slidenum">
              <a:rPr b="0" lang="en-US" sz="1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7086600" y="1149480"/>
            <a:ext cx="6383160" cy="40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’re celebrating local favorites in the [INSERT LOCATION]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y [INSERT MENU ITEMS] and more on [INSERT DAY/DATE] at [INSERT TIME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"/>
          <p:cNvSpPr/>
          <p:nvPr/>
        </p:nvSpPr>
        <p:spPr>
          <a:xfrm>
            <a:off x="7086600" y="6615000"/>
            <a:ext cx="2052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Dining Services Department for more detai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sodexologo.png"/>
          <p:cNvPicPr/>
          <p:nvPr/>
        </p:nvPicPr>
        <p:blipFill>
          <a:blip r:embed="rId2"/>
          <a:stretch/>
        </p:blipFill>
        <p:spPr>
          <a:xfrm>
            <a:off x="9139320" y="6894360"/>
            <a:ext cx="115704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3T02:41:17Z</dcterms:created>
  <dc:creator>Patricia Pugh</dc:creator>
  <dc:description/>
  <dc:language>en-US</dc:language>
  <cp:lastModifiedBy>Patricia Pugh</cp:lastModifiedBy>
  <dcterms:modified xsi:type="dcterms:W3CDTF">2021-06-11T16:51:03Z</dcterms:modified>
  <cp:revision>24</cp:revision>
  <dc:subject/>
  <dc:title>Slide 1</dc:title>
</cp:coreProperties>
</file>