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09B35487-9A13-4EE6-9F1A-8E7C6039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D4DCA48E-8BDE-4CB0-A098-999E49A76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AEA-360A-41B6-96E5-03873C98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5E9-1558-4145-BE93-419D8AEA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74D-274C-4F1B-91C9-F482C25B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0CE-CFEA-4665-9E80-657B6DB8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6BE-203A-4FC8-8FC8-D3382F8F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E20-5E71-4E32-A820-894875DB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965-6FE6-4857-88D8-D97AA769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EBE-7387-4A78-B7E7-CAD2E255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0C1-88EA-4BB2-B7D3-69981C1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373-0BB9-458A-872C-0A70564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2D2-A7C8-4FFD-8163-3898546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D37-6C09-46F1-A7B1-E40D4F91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288D23B2-8DF1-4FE6-AE09-36CE8FE38090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7A49F7CF-2F6C-48C1-85B4-0DB18CEEF394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338800"/>
            <a:ext cx="431316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’re celebrating local favorites in the [INSERT LOCATION]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y [INSERT MENU ITEMS] and more on [INSERT DAY/DATE] at [INSERT TIME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8259840"/>
            <a:ext cx="202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3446640" y="8248680"/>
            <a:ext cx="115704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11T16:51:06Z</dcterms:modified>
  <cp:revision>53</cp:revision>
  <dc:subject/>
  <dc:title>Slide 1</dc:title>
</cp:coreProperties>
</file>