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560680" y="1142640"/>
            <a:ext cx="173664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35D56D14-CF78-42BF-A387-BF49311D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560680" y="1143000"/>
            <a:ext cx="1736640" cy="30862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EE017601-2F9D-45CF-9DDE-6A87E1FC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2CB-5BEC-40E7-B6E2-F7376B2A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514-2118-44F2-A95D-45B4433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3FC-D9DE-412F-9F43-F0509E51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7FC-EA18-49E3-927D-780618D2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6BB-6D9E-4DAB-A8EB-6820C34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EDE-8B71-42D1-B326-0E0CA2F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026-5E6B-4A9F-B380-9B7A49C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711-8A38-4027-8A36-25086128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350-D7CB-4AA9-B275-C79BCF1F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E86-98F9-45AE-8329-90577018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F1C-9AC8-4553-AEB8-5FE50EA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C88-04EF-43AE-91D2-C4652D20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F08E2448-32A6-49DB-90F2-1EBBE404D41D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39B3CEF5-7DAB-438F-84C8-2D90546782E8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44680" y="5438880"/>
            <a:ext cx="431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of New Orlean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544680" y="7913520"/>
            <a:ext cx="115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dexologo.png"/>
          <p:cNvPicPr/>
          <p:nvPr/>
        </p:nvPicPr>
        <p:blipFill>
          <a:blip r:embed="rId2"/>
          <a:stretch/>
        </p:blipFill>
        <p:spPr>
          <a:xfrm>
            <a:off x="1895400" y="820584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8:16Z</cp:lastPrinted>
  <dcterms:modified xsi:type="dcterms:W3CDTF">2021-06-04T18:15:08Z</dcterms:modified>
  <cp:revision>53</cp:revision>
  <dc:subject/>
  <dc:title>Slide 1</dc:title>
</cp:coreProperties>
</file>