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94B-A348-4512-9A5D-4564AD12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016-B556-4D79-815F-07CA754E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B2A-F151-45F4-9A5B-61C7399B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57E-77D4-4415-BB85-A89FB469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DCE-1A01-4D49-A09B-280F40B1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4B9-7B01-4017-A60B-2B50DB2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73D-7C83-48E7-9CB3-64CB1CB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C54-1B59-469D-82AB-D36900D5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B48-0695-4528-8EB6-F220B7E6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B71-C5D6-48D9-8BC6-53F305F9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153-3ACF-4591-8217-E9F9DAB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06A-4723-4D26-9CF1-E9EEB44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711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43749975-EF57-4450-B641-EB32FCAABEAE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54FDE4A2-4BF0-46D7-9310-850794C12491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12720" y="2895480"/>
            <a:ext cx="63835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 us as we celeb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best of New Orleans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Day/Date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Insert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695160" y="6648480"/>
            <a:ext cx="20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Dining Services Department for more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dexologo.png"/>
          <p:cNvPicPr/>
          <p:nvPr/>
        </p:nvPicPr>
        <p:blipFill>
          <a:blip r:embed="rId2"/>
          <a:stretch/>
        </p:blipFill>
        <p:spPr>
          <a:xfrm>
            <a:off x="2747880" y="6926400"/>
            <a:ext cx="1157400" cy="3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2:41:17Z</dcterms:created>
  <dc:creator>Patricia Pugh</dc:creator>
  <dc:description/>
  <dc:language>en-US</dc:language>
  <cp:lastModifiedBy>Patricia Pugh</cp:lastModifiedBy>
  <dcterms:modified xsi:type="dcterms:W3CDTF">2021-06-04T18:14:51Z</dcterms:modified>
  <cp:revision>23</cp:revision>
  <dc:subject/>
  <dc:title>Slide 1</dc:title>
</cp:coreProperties>
</file>