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CFD-2C87-4F1F-A17B-CDD4DF38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A57-ACED-4229-ABDE-77AFEF62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D23-EE0A-40AD-8E0B-0826B6FA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A2C-BB84-4B2A-AC0F-6B85F92D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ADD-F870-4F0A-817F-7D4BAF6A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B6D-D3C0-49AB-8B39-759C4DBE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00E-C66C-4B8A-AD77-660CF186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498-7DC9-404B-AAF0-D27A00FE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290-F1FD-44A1-B580-7BF2319B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D40-57BF-4ADD-BA7C-2FAA91F5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BA9-DC8F-41CE-9F91-8066648B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AD3-D48F-4A7F-869F-9628F6B5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711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37F8F9DA-0724-4263-BA88-4C3C9295BE00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EA03396E-CA4C-44B8-B9BD-749FFFA285C4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2720" y="2895480"/>
            <a:ext cx="6383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est of New York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95160" y="6648480"/>
            <a:ext cx="20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dexologo.png"/>
          <p:cNvPicPr/>
          <p:nvPr/>
        </p:nvPicPr>
        <p:blipFill>
          <a:blip r:embed="rId2"/>
          <a:stretch/>
        </p:blipFill>
        <p:spPr>
          <a:xfrm>
            <a:off x="2747880" y="692640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41:17Z</dcterms:created>
  <dc:creator>Patricia Pugh</dc:creator>
  <dc:description/>
  <dc:language>en-US</dc:language>
  <cp:lastModifiedBy>Patricia Pugh</cp:lastModifiedBy>
  <dcterms:modified xsi:type="dcterms:W3CDTF">2021-06-04T18:12:50Z</dcterms:modified>
  <cp:revision>23</cp:revision>
  <dc:subject/>
  <dc:title>Slide 1</dc:title>
</cp:coreProperties>
</file>