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48263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560680" y="1142640"/>
            <a:ext cx="173664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36451B33-7B6A-4268-8328-5C7536B24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560680" y="1143000"/>
            <a:ext cx="1736640" cy="30862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2CED63A6-A24C-429B-B538-099F3E73E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BE7-D3EC-4FA6-8027-A0AC6B4D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265-8F27-4D17-BD62-F7E20DD7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A2D-C28D-4E2A-896D-EDE0EA48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76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908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0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76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908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A3E-BA15-4B37-879F-501493A7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A8F-9F90-4485-B257-82235784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297-3D5E-4728-AADB-A68D947F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934C-881B-4DB4-ABE0-3982B849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A91-9BFC-482A-A4C2-47C45385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040" y="366480"/>
            <a:ext cx="46339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7D9-BD6A-440B-A01E-CB8B0F2B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F19-2B25-4827-B9F0-69CD91D3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1FF-729C-475A-94C7-A15215B4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FBD-C126-4F50-818B-6D5BD94C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304920" indent="-3049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6680" y="8475480"/>
            <a:ext cx="12020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80046FBC-734E-4611-9B50-D7DDF1F570E7}" type="datetime">
              <a:rPr b="0" lang="en-US" sz="11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8600" y="8475480"/>
            <a:ext cx="16304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89280" y="8475480"/>
            <a:ext cx="120168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29C388C9-1E62-497E-9BD8-BEE81007D4A5}" type="slidenum">
              <a:rPr b="0" lang="en-U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44680" y="5438880"/>
            <a:ext cx="4313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st of New York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544680" y="7913520"/>
            <a:ext cx="115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odexologo.png"/>
          <p:cNvPicPr/>
          <p:nvPr/>
        </p:nvPicPr>
        <p:blipFill>
          <a:blip r:embed="rId2"/>
          <a:stretch/>
        </p:blipFill>
        <p:spPr>
          <a:xfrm>
            <a:off x="1895400" y="820584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2:59:41Z</dcterms:created>
  <dc:creator>Patricia Pugh</dc:creator>
  <dc:description/>
  <dc:language>en-US</dc:language>
  <cp:lastModifiedBy>Patricia Pugh</cp:lastModifiedBy>
  <cp:lastPrinted>2014-06-27T15:18:16Z</cp:lastPrinted>
  <dcterms:modified xsi:type="dcterms:W3CDTF">2021-06-04T18:13:03Z</dcterms:modified>
  <cp:revision>53</cp:revision>
  <dc:subject/>
  <dc:title>Slide 1</dc:title>
</cp:coreProperties>
</file>