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148263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560680" y="1142640"/>
            <a:ext cx="173664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AE055FF6-2BB7-44B4-AB2F-482A6DA05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560680" y="1143000"/>
            <a:ext cx="1736640" cy="308628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AB77EF77-9EAD-4CF5-8625-858EFEF4F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60D7-F801-442E-84F1-7A5F614F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040" y="52851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5DA3-C189-4689-AEF8-C3D7E1F1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3160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934A-EA9A-4221-9F8F-3F8A2B914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376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9084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04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376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9084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E315-095F-41F3-AE09-CA70552A1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3108-CEB6-47B9-848D-DC104DF5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C3FE-E927-4212-AD26-33677237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0B10-79EB-483C-B2D3-195269AA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ECD5-35EE-4A82-9B41-92C74690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040" y="366480"/>
            <a:ext cx="46339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922D-AB34-49EE-9416-D9FFD4C3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D1FD-4C20-485A-ADEA-FEE5F2FA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3160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2667-D176-4350-933F-43B01A0C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92E5-4468-4413-98AC-9A7C16A5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304920" indent="-30492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62040" indent="-2541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019160" indent="-203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427040" indent="-2030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36720" indent="-2030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36720" indent="-2030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36720" indent="-2030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6680" y="8475480"/>
            <a:ext cx="1202040" cy="485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1AC69553-7D0B-4F76-9C62-2430B5816586}" type="datetime">
              <a:rPr b="0" lang="en-US" sz="11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8600" y="8475480"/>
            <a:ext cx="1630440" cy="485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89280" y="8475480"/>
            <a:ext cx="1201680" cy="485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0CA995AC-5A51-4A01-817B-381D404348F9}" type="slidenum">
              <a:rPr b="0" lang="en-U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544680" y="5438880"/>
            <a:ext cx="4313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in us as we celebr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est of San Francisco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sert Day/Date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sert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544680" y="7913520"/>
            <a:ext cx="1157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act the Dining Services Department for more detai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sodexologo.png"/>
          <p:cNvPicPr/>
          <p:nvPr/>
        </p:nvPicPr>
        <p:blipFill>
          <a:blip r:embed="rId2"/>
          <a:stretch/>
        </p:blipFill>
        <p:spPr>
          <a:xfrm>
            <a:off x="1895400" y="8205840"/>
            <a:ext cx="1157400" cy="3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5T12:59:41Z</dcterms:created>
  <dc:creator>Patricia Pugh</dc:creator>
  <dc:description/>
  <dc:language>en-US</dc:language>
  <cp:lastModifiedBy>Patricia Pugh</cp:lastModifiedBy>
  <cp:lastPrinted>2014-06-27T15:18:16Z</cp:lastPrinted>
  <dcterms:modified xsi:type="dcterms:W3CDTF">2021-06-04T18:02:36Z</dcterms:modified>
  <cp:revision>53</cp:revision>
  <dc:subject/>
  <dc:title>Slide 1</dc:title>
</cp:coreProperties>
</file>