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3A8-538F-4700-8A3B-08FE9350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DD9-BEE2-4D49-A226-1908D97F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4C2-769F-43DD-B37B-661C049B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90B-9F3A-49E0-932D-88628EC0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318-C4E1-4985-8669-801397B9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BE7-86EB-45FA-8336-2352F99E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F28-BA70-4A28-B15C-B0A14A43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AE0-820B-4B26-B1C7-4A1D0215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941-5C6C-4AFA-9067-9881E659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7E2-0445-4490-AC15-F9B952B3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0EB-C5C3-49E5-B607-CDB524D7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0BC-A4EB-4D26-A139-63137559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711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65789A07-D336-4728-AC70-81EFAB74AA99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25F2DFFA-1ADC-41EA-BB8C-EFF463C35348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2720" y="2895480"/>
            <a:ext cx="6383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est of San Francisco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95160" y="6648480"/>
            <a:ext cx="20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dexologo.png"/>
          <p:cNvPicPr/>
          <p:nvPr/>
        </p:nvPicPr>
        <p:blipFill>
          <a:blip r:embed="rId2"/>
          <a:stretch/>
        </p:blipFill>
        <p:spPr>
          <a:xfrm>
            <a:off x="2747880" y="692640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41:17Z</dcterms:created>
  <dc:creator>Patricia Pugh</dc:creator>
  <dc:description/>
  <dc:language>en-US</dc:language>
  <cp:lastModifiedBy>Patricia Pugh</cp:lastModifiedBy>
  <dcterms:modified xsi:type="dcterms:W3CDTF">2021-06-04T18:02:22Z</dcterms:modified>
  <cp:revision>23</cp:revision>
  <dc:subject/>
  <dc:title>Slide 1</dc:title>
</cp:coreProperties>
</file>