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C28-E529-469A-BF50-E01776E8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1B7-FD03-4C73-AF84-1DD3562B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979-A71B-42E7-BC69-8FA168BC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DE4-7B67-434B-B1C8-10DFAD7D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A90-474E-4572-B483-0E40F318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093-1A3A-4976-A291-5F5383FD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B2D-2668-46E8-A2F5-ABD28470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B34-7CB5-4455-8328-4F95B506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C2F-810F-4CC5-A59A-415D231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234-EF69-4750-BD60-A03F5DED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171-D520-43B4-BB48-11AA8FE4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80E-F31D-485A-AC0B-8950231A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94C57785-3CEA-4B49-A5A6-4E163F1F8F45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10508119-BC84-41E0-BE83-A9307E5F9114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Toronto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4T17:51:27Z</dcterms:modified>
  <cp:revision>23</cp:revision>
  <dc:subject/>
  <dc:title>Slide 1</dc:title>
</cp:coreProperties>
</file>