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148263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560680" y="1142640"/>
            <a:ext cx="173664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1B11C226-56A8-446E-8C00-8983EED97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560680" y="1143000"/>
            <a:ext cx="1736640" cy="308628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D03524DD-63F7-4436-B2B2-F0ED6F7A1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EE2C-D17B-4E5D-8365-E4DF15467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040" y="52851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72B7-BE37-4D4C-884A-10845859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3160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DC8F-9748-4645-8F99-E0EBDA5C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376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9084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04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376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9084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3E5E-9EE5-46EF-9F66-A12B5A3B7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D3D3-1A2B-4C8D-83C2-CC6F617B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D1BA-989A-477B-A819-8C87A551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8FEC-0108-4CA7-9ADA-1518308F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3988-CC8C-44DD-8C38-04FC6023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040" y="366480"/>
            <a:ext cx="46339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A955-718C-45C4-8ED8-9B63D7B8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DCBE-3200-4E38-B408-07C4D6C8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3160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0090-C8A0-4438-B816-2E2FCF57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EC66-1CE8-4A09-8A3F-63586A14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304920" indent="-30492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62040" indent="-2541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019160" indent="-203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427040" indent="-2030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36720" indent="-2030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36720" indent="-2030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36720" indent="-2030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6680" y="8475480"/>
            <a:ext cx="1202040" cy="485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1ED604A8-79EC-428F-8E0E-730E156CAAD5}" type="datetime">
              <a:rPr b="0" lang="en-US" sz="11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8600" y="8475480"/>
            <a:ext cx="1630440" cy="485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89280" y="8475480"/>
            <a:ext cx="1201680" cy="485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1F1CE45A-C8ED-4BD4-887F-532DE1BD891D}" type="slidenum">
              <a:rPr b="0" lang="en-U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544680" y="5438880"/>
            <a:ext cx="4313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in us as we celebr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est of Toronto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sert Day/Date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sert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544680" y="7913520"/>
            <a:ext cx="1157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act the Dining Services Department for more detai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sodexologo.png"/>
          <p:cNvPicPr/>
          <p:nvPr/>
        </p:nvPicPr>
        <p:blipFill>
          <a:blip r:embed="rId2"/>
          <a:stretch/>
        </p:blipFill>
        <p:spPr>
          <a:xfrm>
            <a:off x="1895400" y="8205840"/>
            <a:ext cx="1157400" cy="3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5T12:59:41Z</dcterms:created>
  <dc:creator>Patricia Pugh</dc:creator>
  <dc:description/>
  <dc:language>en-US</dc:language>
  <cp:lastModifiedBy>Patricia Pugh</cp:lastModifiedBy>
  <cp:lastPrinted>2014-06-27T15:18:16Z</cp:lastPrinted>
  <dcterms:modified xsi:type="dcterms:W3CDTF">2021-06-08T14:10:44Z</dcterms:modified>
  <cp:revision>54</cp:revision>
  <dc:subject/>
  <dc:title>Slide 1</dc:title>
</cp:coreProperties>
</file>