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FD8-C960-4EA9-B7FF-01A19EAB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92F-4541-49B6-BE3B-1F68D5D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1B0-05D1-406F-917F-3B7ABFBC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4E8-F497-4039-A4AC-0EC87544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60F-5E31-46C5-B787-A1105AD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BE2-551D-4EAD-BDCD-F5357C3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685-343F-46FB-96C6-6A1EE86E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28F-9AE6-40A4-8E27-EDAD6718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F0B-1701-4CFF-8195-18BE63B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DCF-D069-4500-A72C-3AE791F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46B-37ED-4814-8B1F-013AB54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CC3-67CB-4460-8D53-9421F0D0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BE64946C-7208-4DC1-B5E6-F21681FEFA84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00610005-3BBD-4B84-B4AD-D80265189EDD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Vancouver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4T17:47:06Z</dcterms:modified>
  <cp:revision>23</cp:revision>
  <dc:subject/>
  <dc:title>Slide 1</dc:title>
</cp:coreProperties>
</file>