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5148263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560680" y="1142640"/>
            <a:ext cx="173664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fld id="{5D2B5D03-E614-4F8E-98B0-B089F0E8E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560680" y="1143000"/>
            <a:ext cx="1736640" cy="308628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fld id="{3DD1DC38-358C-4534-BE35-1C3450B33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F2C8-67D0-4C04-81B5-DF100CF58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463392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7040" y="5285160"/>
            <a:ext cx="463392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184C-2FA5-4E15-85E5-E04E3163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7040" y="52851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631600" y="52851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6DF1-C310-42B3-8668-ABF3CD35A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23760" y="21333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390840" y="21333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7040" y="52851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23760" y="52851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390840" y="52851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F5F3-11F6-4E8F-949C-37B51BA44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7040" y="2133360"/>
            <a:ext cx="463392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B7BF-8B9E-4E21-B417-455B2E21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463392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1645-C150-4D5A-A22E-B5214114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5EF7-07C3-442F-B3FD-D62F0181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6990-E610-4991-81CA-EE5B08C6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7040" y="366480"/>
            <a:ext cx="46339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7680-D737-4E1A-9C9F-72FE42D4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7040" y="52851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42FF-25CE-48BB-BF6E-438F666D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31600" y="52851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FB16-DBA5-4CD7-8AA1-915CE13E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7040" y="5285160"/>
            <a:ext cx="463392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A9DE-A4F9-4711-AB17-DA9732EE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7040" y="2133360"/>
            <a:ext cx="463392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304920" indent="-30492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62040" indent="-2541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1019160" indent="-203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427040" indent="-2030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36720" indent="-20304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36720" indent="-20304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36720" indent="-20304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6680" y="8475480"/>
            <a:ext cx="1202040" cy="4856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  <a:defRPr b="0" lang="en-US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fld id="{EA4DAD70-5DAC-4597-BB3A-547C565A40C6}" type="datetime">
              <a:rPr b="0" lang="en-US" sz="11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8600" y="8475480"/>
            <a:ext cx="1630440" cy="4856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89280" y="8475480"/>
            <a:ext cx="1201680" cy="4856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  <a:defRPr b="0" lang="en-US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fld id="{2CF34FF7-52AF-4117-8778-63D1B2502E6A}" type="slidenum">
              <a:rPr b="0" lang="en-U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544680" y="5438880"/>
            <a:ext cx="4313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in us as we celebr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est of Vancouver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nsert Day/Date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nsert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544680" y="7913520"/>
            <a:ext cx="1157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act the Dining Services Department for more detail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sodexologo.png"/>
          <p:cNvPicPr/>
          <p:nvPr/>
        </p:nvPicPr>
        <p:blipFill>
          <a:blip r:embed="rId2"/>
          <a:stretch/>
        </p:blipFill>
        <p:spPr>
          <a:xfrm>
            <a:off x="1895400" y="8205840"/>
            <a:ext cx="1157400" cy="37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5T12:59:41Z</dcterms:created>
  <dc:creator>Patricia Pugh</dc:creator>
  <dc:description/>
  <dc:language>en-US</dc:language>
  <cp:lastModifiedBy>Patricia Pugh</cp:lastModifiedBy>
  <cp:lastPrinted>2014-06-27T15:18:16Z</cp:lastPrinted>
  <dcterms:modified xsi:type="dcterms:W3CDTF">2021-06-08T14:10:20Z</dcterms:modified>
  <cp:revision>54</cp:revision>
  <dc:subject/>
  <dc:title>Slide 1</dc:title>
</cp:coreProperties>
</file>