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4630400" cy="8229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C69C-57DA-40A9-A609-99A340A27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1316664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1880" y="4757400"/>
            <a:ext cx="1316664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1100-5945-4A90-8B31-E49359A50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7864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1880" y="47574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478640" y="47574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B010-31FE-4F7D-B017-37310ADB4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83640" y="19206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635400" y="19206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1880" y="47574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183640" y="47574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635400" y="47574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AF7F-1EBF-45EC-AE6B-625D08291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1880" y="1920600"/>
            <a:ext cx="13166640" cy="54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B6C7-D63C-454E-96D8-AF5636A53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1316664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9BC8-90D2-407C-84AA-1C00C15CD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642528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478640" y="1920600"/>
            <a:ext cx="642528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D40A-3376-4C28-A9A5-3A6EEB746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C4E1-49F1-46D4-8627-3C777A095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31880" y="330120"/>
            <a:ext cx="131666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51"/>
              </a:spcBef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1D18-3A8B-4081-A64D-B0FC6B0C4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478640" y="1920600"/>
            <a:ext cx="642528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1880" y="47574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8F84-116F-46AC-AFF6-AD6F43AF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642528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47864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78640" y="47574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3DCA-6B8A-4DC0-9CC3-92F64EFD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47864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1880" y="4757400"/>
            <a:ext cx="1316664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710E-7FFC-4747-97AA-C3B0D7D8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1880" y="1920600"/>
            <a:ext cx="1316664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 fontScale="91000"/>
          </a:bodyPr>
          <a:p>
            <a:pPr marL="444600" indent="-44460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1" marL="964800" indent="-369720">
              <a:spcBef>
                <a:spcPts val="1151"/>
              </a:spcBef>
              <a:buClr>
                <a:srgbClr val="000000"/>
              </a:buClr>
              <a:buFont typeface="Arial"/>
              <a:buChar char="–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2" marL="1485000" indent="-29592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3" marL="2078640" indent="-295920">
              <a:spcBef>
                <a:spcPts val="1151"/>
              </a:spcBef>
              <a:buClr>
                <a:srgbClr val="000000"/>
              </a:buClr>
              <a:buFont typeface="Arial"/>
              <a:buChar char="–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4" marL="2673720" indent="-295920">
              <a:spcBef>
                <a:spcPts val="1151"/>
              </a:spcBef>
              <a:buClr>
                <a:srgbClr val="000000"/>
              </a:buClr>
              <a:buFont typeface="Arial"/>
              <a:buChar char="»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5" marL="2673720" indent="-295920">
              <a:spcBef>
                <a:spcPts val="1151"/>
              </a:spcBef>
              <a:buClr>
                <a:srgbClr val="000000"/>
              </a:buClr>
              <a:buFont typeface="Arial"/>
              <a:buChar char="»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6" marL="2673720" indent="-295920">
              <a:spcBef>
                <a:spcPts val="1151"/>
              </a:spcBef>
              <a:buClr>
                <a:srgbClr val="000000"/>
              </a:buClr>
              <a:buFont typeface="Arial"/>
              <a:buChar char="»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31520" y="7627680"/>
            <a:ext cx="3413160" cy="43812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  <a:defRPr b="0" lang="en-US" sz="1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fld id="{E8E50A5C-7468-4EE2-8C57-AE394C787D41}" type="datetime">
              <a:rPr b="0" lang="en-US" sz="17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998960" y="7627680"/>
            <a:ext cx="4632480" cy="43812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485000" y="7627680"/>
            <a:ext cx="3413160" cy="43812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  <a:defRPr b="0" lang="en-US" sz="1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fld id="{329C66F4-B6BE-4F8E-942D-459D331051D3}" type="slidenum">
              <a:rPr b="0" lang="en-US" sz="17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8520120" y="56530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4"/>
          <p:cNvSpPr/>
          <p:nvPr/>
        </p:nvSpPr>
        <p:spPr>
          <a:xfrm>
            <a:off x="8217000" y="2579760"/>
            <a:ext cx="5110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[INSERT CHEFS NAM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AND PROMOTION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DETAILS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5T12:59:41Z</dcterms:created>
  <dc:creator>Patricia Pugh</dc:creator>
  <dc:description/>
  <dc:language>en-US</dc:language>
  <cp:lastModifiedBy>Patricia Pugh</cp:lastModifiedBy>
  <cp:lastPrinted>2014-06-27T15:16:04Z</cp:lastPrinted>
  <dcterms:modified xsi:type="dcterms:W3CDTF">2022-06-06T14:06:13Z</dcterms:modified>
  <cp:revision>50</cp:revision>
  <dc:subject/>
  <dc:title>Slide 1</dc:title>
</cp:coreProperties>
</file>