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5148263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560680" y="1142640"/>
            <a:ext cx="173664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1FD5B51E-CA26-4C10-97C5-5507C0F45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560680" y="1143000"/>
            <a:ext cx="1736640" cy="308628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7B1E3C32-D34E-4FD3-9E4F-DBC43F968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29C-AAD3-4B35-8B57-13D2B9B0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4CA-1C95-4DB0-8AFC-8C88FF59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0EA-BF67-4D9D-9D94-65FBD23C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76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908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0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76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908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0FB-BBA2-45BB-8065-6E23C117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2ED-1B44-4C10-A1A7-0FB1205B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9EE-DB2C-4B92-9A43-D8AAFBF1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0CE-1A58-42A7-8F68-5D2E650C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FCB-8C11-401D-8672-72B1DF56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040" y="366480"/>
            <a:ext cx="46339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EAF-BDFE-4FCA-A97F-A9A2A4DE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C01-F17C-4C97-875B-620B206E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408-FA65-4B68-9E7D-2C8EA4C8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79E-E6BA-42CD-8758-AF80CDFD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304920" indent="-3049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6680" y="8475480"/>
            <a:ext cx="12020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8F038C90-AA3B-4D45-ACE3-FDD27E47669D}" type="datetime">
              <a:rPr b="0" lang="en-US" sz="11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8600" y="8475480"/>
            <a:ext cx="16304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89280" y="8475480"/>
            <a:ext cx="120168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C406B48F-F792-4A13-BF29-92E63C06F282}" type="slidenum">
              <a:rPr b="0" lang="en-U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385920" y="324324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[INSERT CHEFS NAM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ND PROMOTIO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DETAIL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2:59:41Z</dcterms:created>
  <dc:creator>Patricia Pugh</dc:creator>
  <dc:description/>
  <dc:language>en-US</dc:language>
  <cp:lastModifiedBy>Patricia Pugh</cp:lastModifiedBy>
  <cp:lastPrinted>2014-06-27T15:18:16Z</cp:lastPrinted>
  <dcterms:modified xsi:type="dcterms:W3CDTF">2022-06-06T14:05:30Z</dcterms:modified>
  <cp:revision>50</cp:revision>
  <dc:subject/>
  <dc:title>Slide 1</dc:title>
</cp:coreProperties>
</file>