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4630400" cy="8229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288-C504-48E1-BB2B-DAA10C32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885-8FEB-4252-A317-7472275E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408-9693-44FE-AABD-2275F87D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8364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635400" y="19206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188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8364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635400" y="4757400"/>
            <a:ext cx="423936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33C-1BF4-4DE4-A4D8-E820B2FC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F28-C25E-4392-B981-7BFE1620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0092-757D-42ED-ABDE-AF62339F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8C5-3639-478F-ADDE-8C237334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5D1-7D33-4992-B887-0852F751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1880" y="330120"/>
            <a:ext cx="131666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F59A-63F4-4277-BC08-3D57B17E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FA1-C827-400B-A57E-4C5C8E07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78640" y="47574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5CE-2DBE-40D4-B1CF-95292F1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188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78640" y="1920600"/>
            <a:ext cx="642528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1880" y="4757400"/>
            <a:ext cx="13166640" cy="25902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indent="0">
              <a:spcBef>
                <a:spcPts val="1151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061-B125-4AC6-BDBE-75F9DCF6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1880" y="330120"/>
            <a:ext cx="13166640" cy="1371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1880" y="1920600"/>
            <a:ext cx="13166640" cy="5430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91000"/>
          </a:bodyPr>
          <a:p>
            <a:pPr marL="444600" indent="-44460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964800" indent="-3697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2" marL="1485000" indent="-29592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3" marL="2078640" indent="-29592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4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5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6" marL="2673720" indent="-295920">
              <a:spcBef>
                <a:spcPts val="1151"/>
              </a:spcBef>
              <a:buClr>
                <a:srgbClr val="000000"/>
              </a:buClr>
              <a:buFont typeface="Arial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152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19D13545-F920-468C-BC97-D8DA73043F91}" type="datetime">
              <a:rPr b="0" lang="en-US" sz="17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998960" y="7627680"/>
            <a:ext cx="463248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485000" y="7627680"/>
            <a:ext cx="3413160" cy="43812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AC47C6FF-D0DD-41D6-868E-47CA4E480BBA}" type="slidenum">
              <a:rPr b="0" lang="en-US" sz="1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8875800" y="5756400"/>
            <a:ext cx="516420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details, contact Dining Services at (Insert Telephone Number) or e-mail us at (Insert E-ma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8202600" y="1498680"/>
            <a:ext cx="5837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6000" spc="-1" strike="noStrike">
                <a:solidFill>
                  <a:srgbClr val="4dc6b4"/>
                </a:solidFill>
                <a:latin typeface="Arial"/>
              </a:rPr>
              <a:t>LESS STRESS, </a:t>
            </a:r>
            <a:br>
              <a:rPr sz="6000"/>
            </a:br>
            <a:r>
              <a:rPr b="1" lang="en-US" sz="6000" spc="-1" strike="noStrike">
                <a:solidFill>
                  <a:srgbClr val="4dc6b4"/>
                </a:solidFill>
                <a:latin typeface="Arial"/>
              </a:rPr>
              <a:t>MORE FU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8202600" y="3436920"/>
            <a:ext cx="583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it out on (INSERT DAY/DATE) at (INSERT TIME) in the (INSERT LOCATION)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12:59:41Z</dcterms:created>
  <dc:creator>Patricia Pugh</dc:creator>
  <dc:description/>
  <dc:language>en-US</dc:language>
  <cp:lastModifiedBy>Patty Pugh</cp:lastModifiedBy>
  <cp:lastPrinted>2014-06-27T15:16:04Z</cp:lastPrinted>
  <dcterms:modified xsi:type="dcterms:W3CDTF">2021-06-09T19:50:36Z</dcterms:modified>
  <cp:revision>25</cp:revision>
  <dc:subject/>
  <dc:title>Slide 1</dc:title>
</cp:coreProperties>
</file>