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148263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2CCD-32F0-47C6-822C-1CCB7B68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4B8-49DB-4CEE-AB0F-7313624F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FC9-CFA0-4D69-BF13-D0ECFF7D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76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90840" y="21333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70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76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90840" y="5285160"/>
            <a:ext cx="149184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010-B6CD-4887-8618-17D5112E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AED-7798-4659-8D9F-944C6DCB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D63-4DA2-45E4-80A0-9562108E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A98-6BC9-4650-8763-6276A269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DFD-8B19-48BA-B123-FA289EED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7040" y="366480"/>
            <a:ext cx="46339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207-7460-4BA1-BB2F-EC247429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B4C-7AB6-4F36-B83C-E17CFE12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31600" y="52851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101B-A51C-40A5-8F74-244530A2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704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31600" y="2133360"/>
            <a:ext cx="226116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7040" y="5285160"/>
            <a:ext cx="4633920" cy="28778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0636-B02D-4E5F-B58C-4F0C7C90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040" y="366480"/>
            <a:ext cx="4633920" cy="1523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7040" y="2133360"/>
            <a:ext cx="4633920" cy="6033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t">
            <a:normAutofit/>
          </a:bodyPr>
          <a:p>
            <a:pPr marL="304920" indent="-30492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62040" indent="-254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019160" indent="-2030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427040" indent="-2030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36720" indent="-20304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6680" y="8475480"/>
            <a:ext cx="12020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9EE6FAA6-30FD-4714-B074-52D2C6506DBB}" type="datetime">
              <a:rPr b="0" lang="en-US" sz="11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58600" y="8475480"/>
            <a:ext cx="163044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indent="0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89280" y="8475480"/>
            <a:ext cx="1201680" cy="4856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fld id="{A9238B17-088E-4269-8F47-15D7EC9093B1}" type="slidenum">
              <a:rPr b="0" lang="en-US" sz="1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47640" y="7500960"/>
            <a:ext cx="389592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r more details, contac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ning Services at (Inser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lephone Number) or e-mail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 at (Insert E-mai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630360" y="4729320"/>
            <a:ext cx="3932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4000" spc="-1" strike="noStrike">
                <a:solidFill>
                  <a:srgbClr val="5cbaac"/>
                </a:solidFill>
                <a:latin typeface="Arial"/>
              </a:rPr>
              <a:t>LESS STRESS, </a:t>
            </a:r>
            <a:br>
              <a:rPr sz="4000"/>
            </a:br>
            <a:r>
              <a:rPr b="1" lang="en-US" sz="4000" spc="-1" strike="noStrike">
                <a:solidFill>
                  <a:srgbClr val="5cbaac"/>
                </a:solidFill>
                <a:latin typeface="Arial"/>
              </a:rPr>
              <a:t>MORE FU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630360" y="6167520"/>
            <a:ext cx="376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it out on (INSERT DAY/DATE) at (INSERT TIME) in the (INSERT LOCATION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ty Pugh</cp:lastModifiedBy>
  <cp:lastPrinted>2014-06-27T15:18:16Z</cp:lastPrinted>
  <dcterms:modified xsi:type="dcterms:W3CDTF">2021-06-09T19:52:38Z</dcterms:modified>
  <cp:revision>28</cp:revision>
  <dc:subject/>
  <dc:title>Slide 1</dc:title>
</cp:coreProperties>
</file>