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46304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D3AD-C536-499C-BAA4-11ED1ED9C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1880" y="47574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15C9-79A4-48D4-8BA4-4EAA4650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47864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5009-674D-4D08-960E-0AE780F8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8364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63540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188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8364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63540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CC1F-56F7-49A6-A69B-8ECD0C34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8AA1-65EE-43CB-B6DE-2799F4B7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6F93-B53C-4244-833A-FEA57FE0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B5E4-CF1F-418D-98D6-CD38A3B5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711E-AEBA-484C-8A0D-65DCEB2E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1880" y="330120"/>
            <a:ext cx="131666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B615-B03A-41A3-B671-F9F807BA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3DF5-28AE-41AD-BBC2-1A4C8EE8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7864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9408-B326-4EA9-9322-C6436AFC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E38B-3536-4724-ADF9-7687603F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91000"/>
          </a:bodyPr>
          <a:p>
            <a:pPr marL="444600" indent="-44460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64800" indent="-36972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2" marL="1485000" indent="-29592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3" marL="2078640" indent="-29592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4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5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6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1520" y="7627680"/>
            <a:ext cx="3413160" cy="438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54475A43-707E-4EF1-980A-73FA3143464F}" type="datetime">
              <a:rPr b="0" lang="en-US" sz="17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998960" y="7627680"/>
            <a:ext cx="4632480" cy="438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485000" y="7627680"/>
            <a:ext cx="3413160" cy="438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BAECA529-8560-4A3F-81C0-F62444D09722}" type="slidenum">
              <a:rPr b="0" lang="en-US" sz="1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4630400" cy="82296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198440" y="2505240"/>
            <a:ext cx="55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nsert Chef Name and Event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A picture containing drawing&#10;&#10;Description automatically generated"/>
          <p:cNvPicPr/>
          <p:nvPr/>
        </p:nvPicPr>
        <p:blipFill>
          <a:blip r:embed="rId3"/>
          <a:stretch/>
        </p:blipFill>
        <p:spPr>
          <a:xfrm>
            <a:off x="12785760" y="7277040"/>
            <a:ext cx="14367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itle 3"/>
          <p:cNvSpPr/>
          <p:nvPr/>
        </p:nvSpPr>
        <p:spPr>
          <a:xfrm>
            <a:off x="615960" y="1062000"/>
            <a:ext cx="514332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sert Event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3"/>
          <p:cNvSpPr/>
          <p:nvPr/>
        </p:nvSpPr>
        <p:spPr>
          <a:xfrm>
            <a:off x="4681440" y="4745160"/>
            <a:ext cx="300996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elebrity Chef</a:t>
            </a:r>
            <a:br>
              <a:rPr sz="18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sert Chef Name</a:t>
            </a: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3"/>
          <p:cNvSpPr/>
          <p:nvPr/>
        </p:nvSpPr>
        <p:spPr>
          <a:xfrm>
            <a:off x="-3168720" y="5430960"/>
            <a:ext cx="300996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ert chef photo in box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-360" y="4114800"/>
            <a:ext cx="452268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le 3"/>
          <p:cNvSpPr/>
          <p:nvPr/>
        </p:nvSpPr>
        <p:spPr>
          <a:xfrm>
            <a:off x="322200" y="511200"/>
            <a:ext cx="780912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elebrity Chef</a:t>
            </a:r>
            <a:br>
              <a:rPr sz="18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sert Chef Name</a:t>
            </a: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sert Event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3"/>
          <p:cNvSpPr/>
          <p:nvPr/>
        </p:nvSpPr>
        <p:spPr>
          <a:xfrm>
            <a:off x="14940000" y="2527200"/>
            <a:ext cx="300996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&lt;. Insert chef photo in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n bring graphics to front over ph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451360" y="0"/>
            <a:ext cx="6178680" cy="822960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4" descr="A close up of a logo&#10;&#10;Description automatically generated"/>
          <p:cNvPicPr/>
          <p:nvPr/>
        </p:nvPicPr>
        <p:blipFill>
          <a:blip r:embed="rId3"/>
          <a:srcRect l="36266" t="43503" r="36277" b="42942"/>
          <a:stretch/>
        </p:blipFill>
        <p:spPr>
          <a:xfrm>
            <a:off x="11577600" y="-425520"/>
            <a:ext cx="336240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5T12:59:41Z</dcterms:created>
  <dc:creator>Patricia Pugh</dc:creator>
  <dc:description/>
  <dc:language>en-US</dc:language>
  <cp:lastModifiedBy>Patricia Pugh</cp:lastModifiedBy>
  <cp:lastPrinted>2014-06-27T15:16:04Z</cp:lastPrinted>
  <dcterms:modified xsi:type="dcterms:W3CDTF">2020-06-10T23:20:42Z</dcterms:modified>
  <cp:revision>43</cp:revision>
  <dc:subject/>
  <dc:title>Slide 1</dc:title>
</cp:coreProperties>
</file>