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8C0-A98E-4BE0-9933-1069E03A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C49-73D7-4E61-BD4F-D002B7FA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7F8-1476-47E9-AF11-464F905D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A77-7040-4C68-ABED-8B0B1C02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5A5-A17A-4C5C-9F7D-4B78D9F4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8E4-74D6-4D39-94BF-FA9DAC71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967-48BB-44F0-9D28-091542E3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1E5-1261-47A2-9591-EE0F5574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0F3-F2F3-44FF-911D-016C9E7A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970-E9DD-4266-ACAE-1D2A424C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4CB-5CA8-4C04-9310-D46F3BBE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53B-7F02-47B4-BA02-4D7EF07D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4600" indent="-444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64800" indent="-3711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485000" indent="-2959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078640" indent="-2959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C4458B05-70BC-46BD-A3FC-12215283D334}" type="datetime">
              <a:rPr b="0" lang="en-US" sz="17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627680"/>
            <a:ext cx="463248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F1129589-9A56-4DA2-98E0-E52344E3D9DB}" type="slidenum">
              <a:rPr b="0" lang="en-US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8229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7861320" y="2070000"/>
            <a:ext cx="650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rt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41:17Z</dcterms:created>
  <dc:creator>Patricia Pugh</dc:creator>
  <dc:description/>
  <dc:language>en-US</dc:language>
  <cp:lastModifiedBy>Carrie Gregory</cp:lastModifiedBy>
  <dcterms:modified xsi:type="dcterms:W3CDTF">2016-11-09T16:17:44Z</dcterms:modified>
  <cp:revision>6</cp:revision>
  <dc:subject/>
  <dc:title>Slide 1</dc:title>
</cp:coreProperties>
</file>