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CB2-D5CB-4E37-8424-E4AEC621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F0A-A7D8-44DA-9D43-198AEDC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58B-F447-41F5-861A-8941D24F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1F6-5697-400C-BB86-6211CA5D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758-8D4D-416D-ACC0-45B28A39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CF3-21E0-48B6-982C-2A2DB304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8B3-87A5-4D45-A49D-8379F10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54D-06B1-4C04-B1A4-E2EA114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278-266E-4958-8D19-DD96A784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201-00C3-4FE2-90CA-EFF41BC4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F7B-1F8F-40A1-AB1F-B6623613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BC4-BF21-4CD4-B9B6-432A4B49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99D41-A542-45DC-BCBF-97DF1F969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C3108-0AD2-4964-BCF5-E1CCEFD06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40" y="4680"/>
            <a:ext cx="5145120" cy="913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4680"/>
            <a:ext cx="5145120" cy="9134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890640" y="3720960"/>
            <a:ext cx="38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28:52Z</dcterms:created>
  <dc:creator>Patricia Pugh</dc:creator>
  <dc:description/>
  <dc:language>en-US</dc:language>
  <cp:lastModifiedBy>Patricia Pugh</cp:lastModifiedBy>
  <dcterms:modified xsi:type="dcterms:W3CDTF">2016-11-15T00:54:54Z</dcterms:modified>
  <cp:revision>6</cp:revision>
  <dc:subject/>
  <dc:title>Slide 1</dc:title>
</cp:coreProperties>
</file>