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5148263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7E9-81C8-4353-A8D8-2B99B8FD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6D7-A177-45C1-9567-EF6C0BC0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CA7-0B93-40E8-967C-2A41906D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76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908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0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76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908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BC9-E193-4E74-9529-B5F8CC73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A42-B559-4046-B5AE-92E0C19C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AFD-F45E-4FB3-80C3-E0559ADF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DBF-DAB9-4857-8427-ED6446D4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C3C-B402-4C48-8AAD-BFA34719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040" y="366480"/>
            <a:ext cx="46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94A-0E88-4C30-9B4F-F2B90E90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816-6584-43EC-9392-E33C060F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A45-B009-43DB-9241-595E12A4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72C-D246-4403-9339-F2E1682A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680" y="8475480"/>
            <a:ext cx="12020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6EFFE-D2E8-42E6-84FF-7280A689AD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8600" y="8475480"/>
            <a:ext cx="16304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89280" y="8475480"/>
            <a:ext cx="12016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B9E12-F3E3-4DE5-8B73-D2737255A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40" y="0"/>
            <a:ext cx="5143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440" y="0"/>
            <a:ext cx="5143680" cy="9144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585720" y="3260880"/>
            <a:ext cx="401472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ISSEZ LA MEILLEURE DEVINETTE GAGNER 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tes-nous combien de [INSERT ITEM] sont dans notre pot et vous pourriez gagner un/une [INSERT ITEM] ! Visitez [INSERT LOCATION] pour deviner du [INSERT START DATE] au [INSERT END DATE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28640" y="648504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muniquez avec le département des services de restauration pour plus de dé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1440" y="0"/>
            <a:ext cx="514368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66640" y="3409920"/>
            <a:ext cx="401472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 CARNAVAL EST À NOS PORTES 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 plaisir commence à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INSERT TIME] l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INSERT DAY/DATE] à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INSERT LOCATION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728640" y="648504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muniquez avec le département des services de restauration pour plus de dé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440" y="0"/>
            <a:ext cx="514368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557280" y="3255840"/>
            <a:ext cx="405756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RCHEZ ET VOUS TROUVEREZ 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sitez notre [INSERT SOCIAL MEDIA PLATFORM] pour découvri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 que nous avons caché juste pour vous dans la salle à man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728640" y="648504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muniquez avec le département des services de restauration pour plus de dé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440" y="0"/>
            <a:ext cx="5143680" cy="9144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641520" y="3295800"/>
            <a:ext cx="3860640" cy="29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L EST TEMPS DE CRÉER VOTRE PROPRE FESTIVAL PRÉFÉRÉ 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ignez-vous à nous à [INSERT LOCATION] le [INSERT DAY/DATE] à [INSERT TIME] pour faire votre propre gâterie délicieusement sucr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728640" y="648504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muniquez avec le département des services de restauration pour plus de dé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440" y="0"/>
            <a:ext cx="5143680" cy="9144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14520" y="3456000"/>
            <a:ext cx="3919320" cy="22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OTRE CHANCE DE GAGNER 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 plaisir commence le [INSERT DAY/DATE] à [INSERT TIME] à [INSERT LOCATION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728640" y="648504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muniquez avec le département des services de restauration pour plus de dé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440" y="0"/>
            <a:ext cx="5143680" cy="9144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77800" y="3295800"/>
            <a:ext cx="398772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TEZ-VOUS EN FORME 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rchez vers une meilleure santé avec nous le [INSERT DAY/DATE] à [INSERT TIME] à [INSERT LOCATION]. Nous utiliserons des plates-formes de marche pour effectuer ensemble des exercices pour brûler des calo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728640" y="648504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muniquez avec le département des services de restauration pour plus de dé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440" y="0"/>
            <a:ext cx="5143680" cy="9144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574560" y="3257640"/>
            <a:ext cx="401004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DIGGITY DO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ignez-vous à nous à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INSERT LOCATION] à compte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 [INSERT DATE] pour un bar à personnaliser avec des saucisses pas ordinaire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728640" y="648504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muniquez avec le département des services de restauration pour plus de dé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2:28:52Z</dcterms:created>
  <dc:creator>Patricia Pugh</dc:creator>
  <dc:description/>
  <dc:language>en-US</dc:language>
  <cp:lastModifiedBy>Patricia Pugh</cp:lastModifiedBy>
  <dcterms:modified xsi:type="dcterms:W3CDTF">2022-09-08T19:01:16Z</dcterms:modified>
  <cp:revision>44</cp:revision>
  <dc:subject/>
  <dc:title>Slide 1</dc:title>
</cp:coreProperties>
</file>